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53A-C30F-4B5D-B93F-49167B41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2F8-8310-4DA2-AE2B-D80EE2CF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0263-52E0-40B4-BA82-E1496F0E8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1663-39F7-4881-9CBB-76381DB8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8D0A-02B3-470C-876F-DD85AA86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BADA-8BB3-4424-ABFA-CDC37713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8CF4-3A39-4FF0-8A19-046F8803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ADD0-C58E-431D-9103-03BD295F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403B-0A1E-4636-9C7B-E7824B33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8323-1D72-4560-8DD8-26C3B18E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285B-A5C2-4C55-9057-B046FF30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BFB-2237-473E-B668-1477C80E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DEEA-78E3-41C1-92A2-C14D64E5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AE657-1BA2-4C41-AD09-9D7F588C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568B-36B7-4CFA-AE45-C3ED9E80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3F8D-BC01-4D9B-A4BF-DB390806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3E8F-587F-47B9-A95F-647A08EB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8C9-792C-4E27-AC90-401ED23B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E06-6D8B-4925-B9EB-BD4F19C3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27B-2C63-468D-857C-A497BD85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F2E-757E-41DF-BABA-DC433A0F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AD8D-020A-459E-B8AB-56B2DEA1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1DC-56E3-4001-9A09-A97A9503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DAC-92A5-49FF-BAF1-5BCFE459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F6BB-DE3E-45BC-B217-3DB6207EBA2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4535-B1BD-4CF4-9304-3ECCEBC849F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o.wikipedia.org/wiki/1959" TargetMode="External"/><Relationship Id="rId2" Type="http://schemas.openxmlformats.org/officeDocument/2006/relationships/hyperlink" Target="http://ro.wikipedia.org/wiki/Genetic&#259;" TargetMode="External"/><Relationship Id="rId3" Type="http://schemas.openxmlformats.org/officeDocument/2006/relationships/hyperlink" Target="http://ro.wikipedia.org/w/index.php?title=J&#233;r&#244;me_Lejeune&amp;action=edit&amp;redlink=1" TargetMode="External"/><Relationship Id="rId4" Type="http://schemas.openxmlformats.org/officeDocument/2006/relationships/hyperlink" Target="http://ro.wikipedia.org/w/index.php?title=J&#233;r&#244;me_Lejeune&amp;action=edit&amp;redlink=1" TargetMode="External"/><Relationship Id="rId5" Type="http://schemas.openxmlformats.org/officeDocument/2006/relationships/hyperlink" Target="http://ro.wikipedia.org/w/index.php?title=J&#233;r&#244;me_Lejeune&amp;action=edit&amp;redlink=1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ADN-UL UMAN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240" y="342900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Moldovan Horatiu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Liceul Teoretic Gheorghe Sincai – Cluj Napoc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DN-UL UM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RIOTIPUL UMAN NO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OMALII CROMOZOMAL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TERIAL GENETIC-GENETICA UMAN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LADII EREDITARE UM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VALU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ndromul Dow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În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1959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geneticianul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de origine franceză, profesorul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Jérôme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4"/>
              </a:rPr>
              <a:t>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Verdana"/>
                <a:hlinkClick r:id="rId5"/>
              </a:rPr>
              <a:t>Lejeun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, a descoperit că sindromul Down era cauzat de prezența unui cromozom 21 în plus, rezultând astfel un număr total de 47 de cromozomi în loc de 46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657600" y="3809880"/>
            <a:ext cx="2508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indromul Turn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Verdana"/>
              </a:rPr>
              <a:t>Sindromul Turner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este o anomalie cromozomiala care afecteaza persoanele de sex feminin. El apare la 1 din 2500 de nasteri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8120" y="3124080"/>
            <a:ext cx="3348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re deosebire de alte entităţi biologice, omul este o fiinţă biosocială: formarea lui s-a produs în urma unui îndelungat proces de evoluţie biologică, pe de o parte, şi de dezvoltare socială, pe de alta. Părăsind lumea animală, omul a rămas parte a naturii.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0:55:09Z</dcterms:created>
  <dc:creator>Cursant19</dc:creator>
  <dc:description/>
  <dc:language>en-US</dc:language>
  <cp:lastModifiedBy>Cursant19</cp:lastModifiedBy>
  <dcterms:modified xsi:type="dcterms:W3CDTF">2010-08-25T12:12:43Z</dcterms:modified>
  <cp:revision>2</cp:revision>
  <dc:subject/>
  <dc:title>Diapozitivul 1</dc:title>
</cp:coreProperties>
</file>